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045-405B-40FD-9DB9-4385F027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636-CEE8-4436-9A16-B6173D62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039-4320-4252-9CCD-91AB4ACB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B73-FBD9-4C37-A680-275676C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48B-FA67-4430-B7D6-9BB67F30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0C4-FB8C-4449-A037-3908D1D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34BB-54B7-47EB-879A-40BBC42A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439B-1DAC-4654-A2C4-98A978A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65B7-8914-4F71-B6C5-A3DF7DC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06C2-CA0D-41CE-818D-BD02EE77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F2D-8EEF-4380-8AA3-4D16493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2D7-D449-43B8-9032-974407FC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B2B-CB63-4608-96CF-CA9760E4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565-258E-490B-A28C-087B7DC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C6E1-47FD-4938-9B1F-E93754C8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DD4-C0C8-41B2-81C9-BD17A1ED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8BD2-3D80-4AC9-94D0-912AC8C0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F20D-5F89-40B5-9FEB-2F978E33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DBFC-0438-453E-9E0A-767D2548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4F28-B795-4610-BC54-B86B6A4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C795-ED63-44C4-B76E-8704654F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867C-2926-4012-B149-555559C7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664-5874-443E-B2C4-683A1DDD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7CFF-3995-4540-ACD8-E313AF1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8733-4588-469E-9440-A9480F0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F012-0C41-4ACD-900E-006199C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75F5-C66C-4F07-9A75-EAA3D7D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5F6D-AD0E-4793-BA0C-C05C980E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35D3-EBD8-4E6C-9294-87EA8126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00E1-4743-44F9-9983-0D74A2B8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1207-A1CA-44B2-9C00-6668C3E7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4E7B-C7ED-42EF-9B86-1D1F6DF1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FC00-EF99-4A78-AC8E-0C791ED8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3D6-B969-412E-9EAA-D7E4BDA9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9B73-10E4-4D61-8C82-CB631BC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941F-22B2-40E5-AE18-74158C2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4FE0-59BA-4C7F-89CE-343F6A8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81F6-30D6-4637-9BFA-00E37D1A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D25F5-346D-41BF-9C11-9395A8E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392E-1BCA-4F71-81CB-CA6F475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A071-EDF0-492D-912E-2DFCE7B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4D31-60E6-4486-A5DA-0975BC73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7A78-3501-4498-8D68-1333AB68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C9F0-D188-4A1A-B490-CFC5F780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FDA-A31E-41A9-9AB2-5AEAE66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C4A0-AE43-4BBA-A3CC-A6FE807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9E63-2A20-47A1-8AD0-830D47D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2E1C-9802-488B-9409-0A2B8719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F9E9-131F-4788-9000-8CA2469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C1CB-3A77-4C1E-AFB8-79C5E23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47A0-ECE8-4673-A3E3-3350602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8AA5-7EA6-4B12-BFFC-CCC302A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7639-8159-4763-8B1F-9FFF920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76BD-F340-4FE7-A4B1-6C4D8D5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2355C-B0B4-4DF4-8063-11789D5E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84E-CE0E-4085-A1F2-3AB09D4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1588-AA55-4A72-AD50-3AE045EF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B72F-0BA9-4CDE-B9DD-6936FE0B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EC84-80C2-4F80-93EE-8F511AC4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B52A-9917-42C1-9FCC-D0FDEB6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7193B-79D5-48A6-B217-0326C0A5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B96C-BCCA-4B3E-91DD-B8D3397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3BBD9-C37B-43A9-86A9-9530387E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7B4A-835F-4E19-A52E-C5E1FCD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D92C-C1A0-422C-9A15-59B7B9A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94AA-8BC2-4BCC-A5E0-39C645B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346-5813-43BA-93A7-17465DD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E4F3-B3A9-4FD4-BDC4-6A15053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4091-DD17-46C0-980F-7D7F2CDB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53C9-7375-4DE9-B19C-36E58CB8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E33-A5CD-4026-AE71-485D667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BE2-CDD2-4D56-936D-87D87DC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721-604A-4A45-835B-019ED135E50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ECA-0083-4459-96CB-1EF19D0384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1F9-0937-4FE8-99F3-7DC4DBF218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0CC-C7D9-4024-B53A-EA6E25C6203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5D78-2905-495C-9B1B-B58DA6D4A4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0278-EEDD-4ECA-9A9B-EBDA33066E4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mma Roadnight and Sydney Tut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give out your password or credit card information even to you administrators unless you are personally talking to them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ight Arrow 2"/>
          <p:cNvSpPr/>
          <p:nvPr/>
        </p:nvSpPr>
        <p:spPr>
          <a:xfrm>
            <a:off x="5943600" y="5334120"/>
            <a:ext cx="2590920" cy="1143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have been chatting to this person online for a couple of months but you have never met them in person. They ask you to meet them at the local park. What do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7-Point Star 2"/>
          <p:cNvSpPr/>
          <p:nvPr/>
        </p:nvSpPr>
        <p:spPr>
          <a:xfrm>
            <a:off x="1143000" y="4038480"/>
            <a:ext cx="2514600" cy="221004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them no and tell your par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7-Point Star 3"/>
          <p:cNvSpPr/>
          <p:nvPr/>
        </p:nvSpPr>
        <p:spPr>
          <a:xfrm>
            <a:off x="4419720" y="4114800"/>
            <a:ext cx="2514600" cy="22096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them, they are nice to you 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Never meet someone that you don’t personally know. It may not end the way they said it woul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ight Arrow 2"/>
          <p:cNvSpPr/>
          <p:nvPr/>
        </p:nvSpPr>
        <p:spPr>
          <a:xfrm>
            <a:off x="6477120" y="5638680"/>
            <a:ext cx="2209680" cy="8384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meet someone that you don’t personally know. It may not end the way they said it woul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ight Arrow 2"/>
          <p:cNvSpPr/>
          <p:nvPr/>
        </p:nvSpPr>
        <p:spPr>
          <a:xfrm>
            <a:off x="6095880" y="5562720"/>
            <a:ext cx="2667240" cy="1143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are playing games on the Internet and the website asks you to register as a user or for a contest using your name, address, phone number, and email. What do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7-Point Star 2"/>
          <p:cNvSpPr/>
          <p:nvPr/>
        </p:nvSpPr>
        <p:spPr>
          <a:xfrm>
            <a:off x="685800" y="3809880"/>
            <a:ext cx="3048120" cy="28195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 them your information, it says there is a likely chance you would w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7-Point Star 3"/>
          <p:cNvSpPr/>
          <p:nvPr/>
        </p:nvSpPr>
        <p:spPr>
          <a:xfrm>
            <a:off x="4724280" y="3657600"/>
            <a:ext cx="3124440" cy="30481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nore it and stay off the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Don’t give out your personal information to unreliable sources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ight Arrow 2"/>
          <p:cNvSpPr/>
          <p:nvPr/>
        </p:nvSpPr>
        <p:spPr>
          <a:xfrm>
            <a:off x="5943600" y="5105520"/>
            <a:ext cx="2819520" cy="1371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Never give out your personal information to unreliable source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ight Arrow 2"/>
          <p:cNvSpPr/>
          <p:nvPr/>
        </p:nvSpPr>
        <p:spPr>
          <a:xfrm>
            <a:off x="5943600" y="5334120"/>
            <a:ext cx="2895480" cy="1295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you met online asks you to send a picture of yourself. What should you do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7-Point Star 4"/>
          <p:cNvSpPr/>
          <p:nvPr/>
        </p:nvSpPr>
        <p:spPr>
          <a:xfrm>
            <a:off x="685800" y="3200400"/>
            <a:ext cx="4038480" cy="320040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them a picture of your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7-Point Star 5"/>
          <p:cNvSpPr/>
          <p:nvPr/>
        </p:nvSpPr>
        <p:spPr>
          <a:xfrm>
            <a:off x="4876920" y="3200400"/>
            <a:ext cx="4038480" cy="320040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them no and block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You don’t even know this person, don’t send them a picture of yourself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ight Arrow 2"/>
          <p:cNvSpPr/>
          <p:nvPr/>
        </p:nvSpPr>
        <p:spPr>
          <a:xfrm>
            <a:off x="6553080" y="5334120"/>
            <a:ext cx="20574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You don’t even know this person, don’t send them a picture of yourself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ight Arrow 2"/>
          <p:cNvSpPr/>
          <p:nvPr/>
        </p:nvSpPr>
        <p:spPr>
          <a:xfrm>
            <a:off x="7086600" y="55627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who is the same age as you tries to be your friend on a social network site. Do you accept their friend reques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7-Point Star 2">
            <a:hlinkClick r:id="rId1" action="ppaction://hlinksldjump"/>
          </p:cNvPr>
          <p:cNvSpPr/>
          <p:nvPr/>
        </p:nvSpPr>
        <p:spPr>
          <a:xfrm>
            <a:off x="990720" y="3809880"/>
            <a:ext cx="312408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7-Point Star 3">
            <a:hlinkClick r:id="rId2" action="ppaction://hlinksldjump"/>
          </p:cNvPr>
          <p:cNvSpPr/>
          <p:nvPr/>
        </p:nvSpPr>
        <p:spPr>
          <a:xfrm>
            <a:off x="4648320" y="3809880"/>
            <a:ext cx="312408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r social networking site gives you the option to hide information on your account for strangers. Should you block your accoun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7-Point Star 2"/>
          <p:cNvSpPr/>
          <p:nvPr/>
        </p:nvSpPr>
        <p:spPr>
          <a:xfrm>
            <a:off x="1143000" y="3733920"/>
            <a:ext cx="2819520" cy="24382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block your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7-Point Star 3"/>
          <p:cNvSpPr/>
          <p:nvPr/>
        </p:nvSpPr>
        <p:spPr>
          <a:xfrm>
            <a:off x="4952880" y="3809880"/>
            <a:ext cx="2819520" cy="243864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your account so strangers can’t se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The right thing to do would be to just hide your information, because everyone can see what you put online, even personal information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ight Arrow 2"/>
          <p:cNvSpPr/>
          <p:nvPr/>
        </p:nvSpPr>
        <p:spPr>
          <a:xfrm>
            <a:off x="6477120" y="5410080"/>
            <a:ext cx="2438280" cy="1219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Block your account, if you don’t, everyone can see your account, even strangers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ight Arrow 2"/>
          <p:cNvSpPr/>
          <p:nvPr/>
        </p:nvSpPr>
        <p:spPr>
          <a:xfrm>
            <a:off x="6629400" y="548640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ank you for taking this quiz. Remember to stay safe online.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This person could be lying about their age and you don’t actually know them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ight Arrow 3"/>
          <p:cNvSpPr/>
          <p:nvPr/>
        </p:nvSpPr>
        <p:spPr>
          <a:xfrm>
            <a:off x="6553080" y="5257800"/>
            <a:ext cx="2197080" cy="11700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You don’t know this person, they could be lying about their ag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ight Arrow 2"/>
          <p:cNvSpPr/>
          <p:nvPr/>
        </p:nvSpPr>
        <p:spPr>
          <a:xfrm>
            <a:off x="6477120" y="5562720"/>
            <a:ext cx="22860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omeone you know from school emails you and calls you a bad name, later they email you and say, “just kidding”. Is this Cyberbullying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7-Point Star 2"/>
          <p:cNvSpPr/>
          <p:nvPr/>
        </p:nvSpPr>
        <p:spPr>
          <a:xfrm>
            <a:off x="1371600" y="4038480"/>
            <a:ext cx="28195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-Point Star 3"/>
          <p:cNvSpPr/>
          <p:nvPr/>
        </p:nvSpPr>
        <p:spPr>
          <a:xfrm>
            <a:off x="4876920" y="4114800"/>
            <a:ext cx="281916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rect! Even though this person said they were kidding, they could have still hurt your feelings. If they were just kidding they shouldn’t have said it in the first plac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ight Arrow 2"/>
          <p:cNvSpPr/>
          <p:nvPr/>
        </p:nvSpPr>
        <p:spPr>
          <a:xfrm>
            <a:off x="6400800" y="5410080"/>
            <a:ext cx="2362320" cy="1143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correct. If this person was really kidding, they shouldn’t have said it in the first place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ight Arrow 2"/>
          <p:cNvSpPr/>
          <p:nvPr/>
        </p:nvSpPr>
        <p:spPr>
          <a:xfrm>
            <a:off x="6477120" y="5562720"/>
            <a:ext cx="22860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You get an email from the administrators of the network that needs your personal information, including your credit card information and email passwords. Do you reply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7-Point Star 2"/>
          <p:cNvSpPr/>
          <p:nvPr/>
        </p:nvSpPr>
        <p:spPr>
          <a:xfrm>
            <a:off x="914400" y="4114800"/>
            <a:ext cx="23623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7-Point Star 3"/>
          <p:cNvSpPr/>
          <p:nvPr/>
        </p:nvSpPr>
        <p:spPr>
          <a:xfrm>
            <a:off x="4343400" y="4114800"/>
            <a:ext cx="2362320" cy="2133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Arrow 2"/>
          <p:cNvSpPr/>
          <p:nvPr/>
        </p:nvSpPr>
        <p:spPr>
          <a:xfrm>
            <a:off x="5867280" y="5486400"/>
            <a:ext cx="2667240" cy="10666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rect! You should never give out your password or credit card information to your administrators unless you are personally talking to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4:01Z</dcterms:created>
  <dc:creator>HSD</dc:creator>
  <dc:description/>
  <dc:language>en-US</dc:language>
  <cp:lastModifiedBy>HSD</cp:lastModifiedBy>
  <dcterms:modified xsi:type="dcterms:W3CDTF">2010-05-19T17:46:55Z</dcterms:modified>
  <cp:revision>21</cp:revision>
  <dc:subject/>
  <dc:title>Slide 1</dc:title>
</cp:coreProperties>
</file>